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9FC0-1EF8-4641-AE27-5B8630A2E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se sentence starters to model facilitation of data analysis</a:t>
            </a: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BFAF-6AEB-4071-A61B-E2388AB25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6751-7571-4CCB-9A0E-AACA56BF4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D1A3-A71B-476B-B982-9916D9122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will debrief and people will need to share rationale</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2EE1-C748-4835-8849-BE27E5ED5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eak about Edward Tufte and the book, Envision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utes</a:t>
            </a: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66B4-E25D-4069-8955-06CE7FF81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e cohort from grade 9 applied to grade 10 applied to grade 11 MB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B517-9FEE-4942-92C6-E29A608A7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de 9 EQAO data for one school along with mark distribution data; grade 9 marks organized by section with coding to indicate grade 6 EQAO score for math</a:t>
            </a: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2820-A367-44A4-8694-7DE28F593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34401-E1C6-4FE8-9426-B37FED2F3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4BC2B-E49F-46C5-A1EE-E66AA91F9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27C58-D734-4437-ABA9-4102C333C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C40A0-7B5A-4FA3-89BA-BB97686EE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56324-9E29-4C0E-B79C-58457C169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5375A-C076-4D68-BB52-618BEAD93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E4C99-1214-40F1-991A-8A1E06752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426BD-847E-4DD0-882F-D3114DEB3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48B91-F4D0-40D8-86FF-E367F0929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B567A-82E9-4EDD-BF71-8355EC10A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E29AF-A185-4A22-B68C-02B5FA52C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62326-3DF6-42ED-A6A5-080945EBF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E41F4-F114-4AEA-B71A-AA5E3639D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CC0B9-0BDB-4D2D-8E84-E890EB627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53707-B342-483C-8304-FB310BEF6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13EFC-960E-4B30-BAAE-5CBD13A5F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6A844-C67B-43B4-B394-0C941A877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9CD9C-BF68-477D-A4F3-BC8551043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F318A-A742-41BB-B3C7-6175E6DE1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46FBC-B65E-444F-966F-ABD0E03EB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D3529-3D47-43DD-A1F4-6BAFC2160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F37CE-C3B9-418E-ADE5-373BA330B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58534-83E2-4E33-B410-22A58F002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EDDB4-BCE0-4086-BD83-6D22AB5FD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EEAB-200D-4DC7-A0FC-942B2796B0D8}"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DFA0-ED82-44BD-A652-91996DF663A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2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versation Starters</a:t>
            </a:r>
            <a:endParaRPr b="0" lang="en-US" sz="4400" spc="-1" strike="noStrike">
              <a:solidFill>
                <a:srgbClr val="0d469b"/>
              </a:solidFill>
              <a:latin typeface="Arial"/>
            </a:endParaRPr>
          </a:p>
        </p:txBody>
      </p:sp>
      <p:pic>
        <p:nvPicPr>
          <p:cNvPr id="112" name="Picture 2" descr=""/>
          <p:cNvPicPr/>
          <p:nvPr/>
        </p:nvPicPr>
        <p:blipFill>
          <a:blip r:embed="rId1"/>
          <a:stretch/>
        </p:blipFill>
        <p:spPr>
          <a:xfrm>
            <a:off x="695160" y="1905120"/>
            <a:ext cx="7753680" cy="4724280"/>
          </a:xfrm>
          <a:prstGeom prst="rect">
            <a:avLst/>
          </a:prstGeom>
          <a:ln w="0">
            <a:noFill/>
          </a:ln>
        </p:spPr>
      </p:pic>
      <p:pic>
        <p:nvPicPr>
          <p:cNvPr id="113" name="Picture 3" descr=""/>
          <p:cNvPicPr/>
          <p:nvPr/>
        </p:nvPicPr>
        <p:blipFill>
          <a:blip r:embed="rId2"/>
          <a:stretch/>
        </p:blipFill>
        <p:spPr>
          <a:xfrm>
            <a:off x="228600" y="1905120"/>
            <a:ext cx="8325000" cy="261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amining Data in TinkerPlots</a:t>
            </a:r>
            <a:endParaRPr b="0" lang="en-US" sz="44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m four (or more) groups and examine the Tinkerplot data file (Board Grade 6 9 OSSLT v3.t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ree possible learning goals:</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Increase knowledge of </a:t>
            </a:r>
            <a:endParaRPr b="0" lang="en-US" sz="2800" spc="-1" strike="noStrike">
              <a:solidFill>
                <a:srgbClr val="ff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inkerplot software</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ata available and ways to blend file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cess for engaging in data analy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e Conversation Star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ebrief</a:t>
            </a:r>
            <a:endParaRPr b="0" lang="en-US" sz="4400" spc="-1" strike="noStrike">
              <a:solidFill>
                <a:srgbClr val="0d469b"/>
              </a:solidFill>
              <a:latin typeface="Arial"/>
            </a:endParaRPr>
          </a:p>
        </p:txBody>
      </p:sp>
      <p:sp>
        <p:nvSpPr>
          <p:cNvPr id="117" name=""/>
          <p:cNvSpPr txBox="1"/>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engage teachers and administrators in such data analysis? How does it support goal setting?</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nabling structures, conditions and processes are required to engage these stakeholders in such dialogue?</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onversation starters were used?  Why were these effective [or not] during the facilitated conver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Journal</a:t>
            </a:r>
            <a:endParaRPr b="0" lang="en-US" sz="4400" spc="-1" strike="noStrike">
              <a:solidFill>
                <a:srgbClr val="0d469b"/>
              </a:solidFill>
              <a:latin typeface="Arial"/>
            </a:endParaRPr>
          </a:p>
        </p:txBody>
      </p:sp>
      <p:sp>
        <p:nvSpPr>
          <p:cNvPr id="119"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ticipants wi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using data and setting goals with a focus on Equity Lead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oaden the depth and breadth of data used for decision ma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by engaging in courageous conversations focused on using data and setting goals using conversation star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98240"/>
            <a:ext cx="8077320" cy="134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d469b"/>
                </a:solidFill>
                <a:latin typeface="Arial"/>
              </a:rPr>
              <a:t>7 Principles of Fierce Conversations</a:t>
            </a:r>
            <a:endParaRPr b="0" lang="en-US" sz="4500" spc="-1" strike="noStrike">
              <a:solidFill>
                <a:srgbClr val="0d469b"/>
              </a:solidFill>
              <a:latin typeface="Arial"/>
            </a:endParaRPr>
          </a:p>
        </p:txBody>
      </p:sp>
      <p:sp>
        <p:nvSpPr>
          <p:cNvPr id="98"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mprovement Planning</a:t>
            </a:r>
            <a:endParaRPr b="0" lang="en-US" sz="44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Engaging in Reflection &amp; Using a Broader Data Base for Decision Making and Monitor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oal Sort</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Swim Buddy partner, sort the goals from most to least SM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fer to the questions provi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xamining Data</a:t>
            </a:r>
            <a:endParaRPr b="0" lang="en-US" sz="4400" spc="-1" strike="noStrike">
              <a:solidFill>
                <a:srgbClr val="0d469b"/>
              </a:solidFill>
              <a:latin typeface="Arial"/>
            </a:endParaRPr>
          </a:p>
        </p:txBody>
      </p:sp>
      <p:sp>
        <p:nvSpPr>
          <p:cNvPr id="10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ather with your Campfire tri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amine one of the two Metathink Docu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your questions, comments, and insights on the docu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Metathink Document A</a:t>
            </a:r>
            <a:endParaRPr b="0" lang="en-US" sz="4400" spc="-1" strike="noStrike">
              <a:solidFill>
                <a:srgbClr val="0d469b"/>
              </a:solidFill>
              <a:latin typeface="Arial"/>
            </a:endParaRPr>
          </a:p>
        </p:txBody>
      </p:sp>
      <p:pic>
        <p:nvPicPr>
          <p:cNvPr id="108" name="Picture 5" descr=""/>
          <p:cNvPicPr/>
          <p:nvPr/>
        </p:nvPicPr>
        <p:blipFill>
          <a:blip r:embed="rId1"/>
          <a:stretch/>
        </p:blipFill>
        <p:spPr>
          <a:xfrm>
            <a:off x="1214280" y="1857240"/>
            <a:ext cx="7000920" cy="595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Metathink Document B</a:t>
            </a:r>
            <a:endParaRPr b="0" lang="en-US" sz="4400" spc="-1" strike="noStrike">
              <a:solidFill>
                <a:srgbClr val="0d469b"/>
              </a:solidFill>
              <a:latin typeface="Arial"/>
            </a:endParaRPr>
          </a:p>
        </p:txBody>
      </p:sp>
      <p:pic>
        <p:nvPicPr>
          <p:cNvPr id="110" name="Picture 4" descr=""/>
          <p:cNvPicPr/>
          <p:nvPr/>
        </p:nvPicPr>
        <p:blipFill>
          <a:blip r:embed="rId1"/>
          <a:stretch/>
        </p:blipFill>
        <p:spPr>
          <a:xfrm>
            <a:off x="571680" y="1714680"/>
            <a:ext cx="7943760" cy="514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19:32:31Z</dcterms:modified>
  <cp:revision>151</cp:revision>
  <dc:subject/>
  <dc:title>Slide 1</dc:title>
</cp:coreProperties>
</file>